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0.png" ContentType="image/png"/>
  <Override PartName="/ppt/media/image13.png" ContentType="image/png"/>
  <Override PartName="/ppt/media/image6.gif" ContentType="image/gif"/>
  <Override PartName="/ppt/media/image9.png" ContentType="image/png"/>
  <Override PartName="/ppt/media/image8.png" ContentType="image/png"/>
  <Override PartName="/ppt/media/image38.png" ContentType="image/png"/>
  <Override PartName="/ppt/media/image1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7F8-0E0B-43A7-9F6B-529D1360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B8E-7FF7-4152-9C56-AAA8B743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66E-6F80-450E-978A-501E363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110-9824-4A5A-A0A9-EBED6161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516-1CA4-40D1-9F1D-CBA9E1F1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B85-1B70-4C26-BA9A-997405A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A09-D21F-456B-B545-44EF83B8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E6B-9B8A-46B4-BB12-94502CB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56B-F15B-4540-BB7E-D56A5E4E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764-1F68-4E7A-98DA-6008BB5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EFA-7CAB-4355-A9E6-72F155D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38F-F994-4622-8888-0E4CA8CF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030-162A-4E1E-8464-30C08C60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ivatehand.com/flash/elements.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GFIvXVMbII0&amp;amp;feature=related" TargetMode="Externa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1920960" y="2914560"/>
            <a:ext cx="3370320" cy="901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1414440" y="12600"/>
            <a:ext cx="566280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bytefusion.com/products/ens/secexfile/mad_scientist_thinking_equation_hr.gif"/>
          <p:cNvPicPr/>
          <p:nvPr/>
        </p:nvPicPr>
        <p:blipFill>
          <a:blip r:embed="rId3"/>
          <a:stretch/>
        </p:blipFill>
        <p:spPr>
          <a:xfrm>
            <a:off x="7397640" y="152280"/>
            <a:ext cx="151776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1938240" y="1859040"/>
            <a:ext cx="427356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225360" y="-324000"/>
            <a:ext cx="7785000" cy="1006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457200" y="4127400"/>
            <a:ext cx="5257800" cy="2226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Isotopes-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toms having the same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                    number of protons, but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                    different number of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                     neu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0" y="533520"/>
            <a:ext cx="5791320" cy="55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0253f"/>
                </a:solidFill>
                <a:uFillTx/>
                <a:latin typeface="Calibri"/>
              </a:rPr>
              <a:t>Polyatomic Ions-</a:t>
            </a: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a group of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3520" y="1284120"/>
            <a:ext cx="510516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“</a:t>
            </a: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poly”-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means more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0" y="2057400"/>
            <a:ext cx="9144000" cy="947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onization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the process of adding electrons to or remo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electrons from an atom or group of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www.emc.maricopa.edu/faculty/farabee/BIOBK/cisotopes.gif"/>
          <p:cNvPicPr/>
          <p:nvPr/>
        </p:nvPicPr>
        <p:blipFill>
          <a:blip r:embed="rId2"/>
          <a:stretch/>
        </p:blipFill>
        <p:spPr>
          <a:xfrm>
            <a:off x="5715000" y="3276720"/>
            <a:ext cx="2590920" cy="34430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82" name="Picture 2" descr="http://www.bluechillies.com/graphics/thumbs/free_tv_cartoon_screensaver-36965.jpg"/>
          <p:cNvPicPr/>
          <p:nvPr/>
        </p:nvPicPr>
        <p:blipFill>
          <a:blip r:embed="rId3"/>
          <a:stretch/>
        </p:blipFill>
        <p:spPr>
          <a:xfrm>
            <a:off x="6394320" y="298440"/>
            <a:ext cx="1914480" cy="15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447920" y="29718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ivatehand.com/flash/elemen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08080" y="927000"/>
            <a:ext cx="8843760" cy="1146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1295280" y="2209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GFIvXVMbII0&amp;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22.gif"/>
          <p:cNvPicPr/>
          <p:nvPr/>
        </p:nvPicPr>
        <p:blipFill>
          <a:blip r:embed="rId4"/>
          <a:stretch/>
        </p:blipFill>
        <p:spPr>
          <a:xfrm>
            <a:off x="3733920" y="3962520"/>
            <a:ext cx="138420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-347760" y="755640"/>
            <a:ext cx="1195560" cy="5499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2"/>
          <p:cNvGrpSpPr/>
          <p:nvPr/>
        </p:nvGrpSpPr>
        <p:grpSpPr>
          <a:xfrm>
            <a:off x="762120" y="685800"/>
            <a:ext cx="1523880" cy="2209680"/>
            <a:chOff x="762120" y="685800"/>
            <a:chExt cx="1523880" cy="2209680"/>
          </a:xfrm>
        </p:grpSpPr>
        <p:grpSp>
          <p:nvGrpSpPr>
            <p:cNvPr id="51" name="Group 5"/>
            <p:cNvGrpSpPr/>
            <p:nvPr/>
          </p:nvGrpSpPr>
          <p:grpSpPr>
            <a:xfrm>
              <a:off x="762120" y="685800"/>
              <a:ext cx="1523880" cy="2209680"/>
              <a:chOff x="762120" y="685800"/>
              <a:chExt cx="1523880" cy="2209680"/>
            </a:xfrm>
          </p:grpSpPr>
          <p:grpSp>
            <p:nvGrpSpPr>
              <p:cNvPr id="52" name="Rectangle 2"/>
              <p:cNvGrpSpPr/>
              <p:nvPr/>
            </p:nvGrpSpPr>
            <p:grpSpPr>
              <a:xfrm>
                <a:off x="1047240" y="685800"/>
                <a:ext cx="1017720" cy="2209680"/>
                <a:chOff x="1047240" y="685800"/>
                <a:chExt cx="1017720" cy="2209680"/>
              </a:xfrm>
            </p:grpSpPr>
            <p:pic>
              <p:nvPicPr>
                <p:cNvPr id="53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47240" y="685800"/>
                  <a:ext cx="1017720" cy="220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" name=""/>
                <p:cNvSpPr/>
                <p:nvPr/>
              </p:nvSpPr>
              <p:spPr>
                <a:xfrm>
                  <a:off x="1072800" y="718200"/>
                  <a:ext cx="973080" cy="21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5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822240"/>
                <a:ext cx="1523880" cy="158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Box 3"/>
            <p:cNvSpPr/>
            <p:nvPr/>
          </p:nvSpPr>
          <p:spPr>
            <a:xfrm>
              <a:off x="762120" y="748800"/>
              <a:ext cx="1523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6"/>
          <p:cNvSpPr/>
          <p:nvPr/>
        </p:nvSpPr>
        <p:spPr>
          <a:xfrm>
            <a:off x="2514600" y="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n el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6781680" y="1841400"/>
            <a:ext cx="1327320" cy="14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"/>
          <p:cNvSpPr/>
          <p:nvPr/>
        </p:nvSpPr>
        <p:spPr>
          <a:xfrm>
            <a:off x="7010280" y="209376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4"/>
          <p:cNvSpPr/>
          <p:nvPr/>
        </p:nvSpPr>
        <p:spPr>
          <a:xfrm>
            <a:off x="6400800" y="1407960"/>
            <a:ext cx="2111400" cy="2305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6095880" y="1103400"/>
            <a:ext cx="2743200" cy="304776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8305920" y="2170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8229600" y="2475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8610480" y="2133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861048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7315200" y="685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2209680" y="9907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) Write out what you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elec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6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762120" y="32893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Draw nucleu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Put # of P’s and N’s in nucleu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Draw the first shell and fill it if you can (up to 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)Draw next outer shell &amp; fill it if you can…(up to 8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)Repeat this until you run out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"/>
          <p:cNvGrpSpPr/>
          <p:nvPr/>
        </p:nvGrpSpPr>
        <p:grpSpPr>
          <a:xfrm>
            <a:off x="533520" y="1981080"/>
            <a:ext cx="2514600" cy="3429000"/>
            <a:chOff x="533520" y="1981080"/>
            <a:chExt cx="2514600" cy="3429000"/>
          </a:xfrm>
        </p:grpSpPr>
        <p:grpSp>
          <p:nvGrpSpPr>
            <p:cNvPr id="70" name="Rectangle 2"/>
            <p:cNvGrpSpPr/>
            <p:nvPr/>
          </p:nvGrpSpPr>
          <p:grpSpPr>
            <a:xfrm>
              <a:off x="816840" y="1981080"/>
              <a:ext cx="2048400" cy="3429000"/>
              <a:chOff x="816840" y="1981080"/>
              <a:chExt cx="2048400" cy="3429000"/>
            </a:xfrm>
          </p:grpSpPr>
          <p:pic>
            <p:nvPicPr>
              <p:cNvPr id="71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16840" y="1981080"/>
                <a:ext cx="204840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847440" y="2010960"/>
                <a:ext cx="1991160" cy="33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4"/>
            <p:cNvSpPr/>
            <p:nvPr/>
          </p:nvSpPr>
          <p:spPr>
            <a:xfrm>
              <a:off x="533520" y="2649600"/>
              <a:ext cx="251460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Rectangle 1" descr=""/>
          <p:cNvPicPr/>
          <p:nvPr/>
        </p:nvPicPr>
        <p:blipFill>
          <a:blip r:embed="rId2"/>
          <a:stretch/>
        </p:blipFill>
        <p:spPr>
          <a:xfrm>
            <a:off x="-324000" y="1047600"/>
            <a:ext cx="1195560" cy="54993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17"/>
          <p:cNvCxnSpPr/>
          <p:nvPr/>
        </p:nvCxnSpPr>
        <p:spPr>
          <a:xfrm flipH="1">
            <a:off x="2666520" y="1371600"/>
            <a:ext cx="1448640" cy="3124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Rectangle 33"/>
          <p:cNvSpPr/>
          <p:nvPr/>
        </p:nvSpPr>
        <p:spPr>
          <a:xfrm>
            <a:off x="76320" y="0"/>
            <a:ext cx="9601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mportant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f atomic mass number is a decim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52560" y="2514600"/>
          <a:ext cx="1714320" cy="25909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259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9.09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32"/>
          <p:cNvSpPr/>
          <p:nvPr/>
        </p:nvSpPr>
        <p:spPr>
          <a:xfrm>
            <a:off x="3809880" y="2057400"/>
            <a:ext cx="533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ou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p o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5 and higher=round up to the next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4 and lower= round down to the whole number that is already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685800" y="55627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Round this to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1" descr=""/>
          <p:cNvPicPr/>
          <p:nvPr/>
        </p:nvPicPr>
        <p:blipFill>
          <a:blip r:embed="rId1"/>
          <a:stretch/>
        </p:blipFill>
        <p:spPr>
          <a:xfrm>
            <a:off x="-396720" y="3419640"/>
            <a:ext cx="1188720" cy="3687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"/>
          <p:cNvGrpSpPr/>
          <p:nvPr/>
        </p:nvGrpSpPr>
        <p:grpSpPr>
          <a:xfrm>
            <a:off x="2514600" y="4038480"/>
            <a:ext cx="1828800" cy="2438640"/>
            <a:chOff x="2514600" y="4038480"/>
            <a:chExt cx="1828800" cy="2438640"/>
          </a:xfrm>
        </p:grpSpPr>
        <p:grpSp>
          <p:nvGrpSpPr>
            <p:cNvPr id="82" name="Group 5"/>
            <p:cNvGrpSpPr/>
            <p:nvPr/>
          </p:nvGrpSpPr>
          <p:grpSpPr>
            <a:xfrm>
              <a:off x="2514600" y="4038480"/>
              <a:ext cx="1828800" cy="2438640"/>
              <a:chOff x="2514600" y="4038480"/>
              <a:chExt cx="1828800" cy="2438640"/>
            </a:xfrm>
          </p:grpSpPr>
          <p:grpSp>
            <p:nvGrpSpPr>
              <p:cNvPr id="83" name="Rectangle 2"/>
              <p:cNvGrpSpPr/>
              <p:nvPr/>
            </p:nvGrpSpPr>
            <p:grpSpPr>
              <a:xfrm>
                <a:off x="2786760" y="4038480"/>
                <a:ext cx="1373040" cy="2438640"/>
                <a:chOff x="2786760" y="4038480"/>
                <a:chExt cx="1373040" cy="2438640"/>
              </a:xfrm>
            </p:grpSpPr>
            <p:pic>
              <p:nvPicPr>
                <p:cNvPr id="84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760" y="4038480"/>
                  <a:ext cx="1373040" cy="243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>
                  <a:off x="2814480" y="4070880"/>
                  <a:ext cx="1320480" cy="23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4139280"/>
                <a:ext cx="182880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TextBox 5"/>
            <p:cNvSpPr/>
            <p:nvPr/>
          </p:nvSpPr>
          <p:spPr>
            <a:xfrm>
              <a:off x="2514600" y="4107960"/>
              <a:ext cx="18288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5.9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19"/>
          <p:cNvSpPr/>
          <p:nvPr/>
        </p:nvSpPr>
        <p:spPr>
          <a:xfrm>
            <a:off x="2438280" y="856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actice drawing elements: 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using numbers instead of symbol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15" descr=""/>
          <p:cNvPicPr/>
          <p:nvPr/>
        </p:nvPicPr>
        <p:blipFill>
          <a:blip r:embed="rId4"/>
          <a:stretch/>
        </p:blipFill>
        <p:spPr>
          <a:xfrm>
            <a:off x="-249120" y="2060640"/>
            <a:ext cx="286380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The Boring World of Niels Bohr"/>
          <p:cNvPicPr/>
          <p:nvPr/>
        </p:nvPicPr>
        <p:blipFill>
          <a:blip r:embed="rId5"/>
          <a:stretch/>
        </p:blipFill>
        <p:spPr>
          <a:xfrm>
            <a:off x="5562720" y="33526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ebphysics.davidson.edu/faculty/thg/320_files/bohr.jpg"/>
          <p:cNvPicPr/>
          <p:nvPr/>
        </p:nvPicPr>
        <p:blipFill>
          <a:blip r:embed="rId6"/>
          <a:stretch/>
        </p:blipFill>
        <p:spPr>
          <a:xfrm>
            <a:off x="23760" y="171360"/>
            <a:ext cx="2378160" cy="2175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"/>
          <p:cNvSpPr/>
          <p:nvPr/>
        </p:nvSpPr>
        <p:spPr>
          <a:xfrm>
            <a:off x="2438280" y="99072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after Niels Bo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s all protons, neutrons,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685800" y="4125960"/>
            <a:ext cx="1676520" cy="2274840"/>
            <a:chOff x="685800" y="4125960"/>
            <a:chExt cx="1676520" cy="2274840"/>
          </a:xfrm>
        </p:grpSpPr>
        <p:grpSp>
          <p:nvGrpSpPr>
            <p:cNvPr id="94" name="Group 5"/>
            <p:cNvGrpSpPr/>
            <p:nvPr/>
          </p:nvGrpSpPr>
          <p:grpSpPr>
            <a:xfrm>
              <a:off x="685800" y="4145040"/>
              <a:ext cx="1676520" cy="2255760"/>
              <a:chOff x="685800" y="4145040"/>
              <a:chExt cx="1676520" cy="2255760"/>
            </a:xfrm>
          </p:grpSpPr>
          <p:grpSp>
            <p:nvGrpSpPr>
              <p:cNvPr id="95" name="Rectangle 2"/>
              <p:cNvGrpSpPr/>
              <p:nvPr/>
            </p:nvGrpSpPr>
            <p:grpSpPr>
              <a:xfrm>
                <a:off x="982080" y="4145040"/>
                <a:ext cx="1160280" cy="2255760"/>
                <a:chOff x="982080" y="4145040"/>
                <a:chExt cx="1160280" cy="2255760"/>
              </a:xfrm>
            </p:grpSpPr>
            <p:pic>
              <p:nvPicPr>
                <p:cNvPr id="96" name="Rectangle 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82080" y="4145040"/>
                  <a:ext cx="1160280" cy="225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>
                  <a:off x="1006920" y="4174560"/>
                  <a:ext cx="1113120" cy="22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8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800" y="4216320"/>
                <a:ext cx="1676520" cy="160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TextBox 23"/>
            <p:cNvSpPr/>
            <p:nvPr/>
          </p:nvSpPr>
          <p:spPr>
            <a:xfrm>
              <a:off x="685800" y="4125960"/>
              <a:ext cx="167652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1"/>
          <p:cNvSpPr/>
          <p:nvPr/>
        </p:nvSpPr>
        <p:spPr>
          <a:xfrm>
            <a:off x="6248520" y="1841400"/>
            <a:ext cx="1326960" cy="14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477120" y="209376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 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5867280" y="1407960"/>
            <a:ext cx="2111400" cy="2305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543800" y="2209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5" descr=""/>
          <p:cNvPicPr/>
          <p:nvPr/>
        </p:nvPicPr>
        <p:blipFill>
          <a:blip r:embed="rId1"/>
          <a:stretch/>
        </p:blipFill>
        <p:spPr>
          <a:xfrm>
            <a:off x="-347760" y="-433440"/>
            <a:ext cx="29084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6"/>
          <p:cNvGrpSpPr/>
          <p:nvPr/>
        </p:nvGrpSpPr>
        <p:grpSpPr>
          <a:xfrm>
            <a:off x="6248520" y="4449600"/>
            <a:ext cx="1600200" cy="2179800"/>
            <a:chOff x="6248520" y="4449600"/>
            <a:chExt cx="1600200" cy="2179800"/>
          </a:xfrm>
        </p:grpSpPr>
        <p:grpSp>
          <p:nvGrpSpPr>
            <p:cNvPr id="106" name="Group 5"/>
            <p:cNvGrpSpPr/>
            <p:nvPr/>
          </p:nvGrpSpPr>
          <p:grpSpPr>
            <a:xfrm>
              <a:off x="6248520" y="4449600"/>
              <a:ext cx="1600200" cy="2179800"/>
              <a:chOff x="6248520" y="4449600"/>
              <a:chExt cx="1600200" cy="2179800"/>
            </a:xfrm>
          </p:grpSpPr>
          <p:grpSp>
            <p:nvGrpSpPr>
              <p:cNvPr id="107" name="Rectangle 2"/>
              <p:cNvGrpSpPr/>
              <p:nvPr/>
            </p:nvGrpSpPr>
            <p:grpSpPr>
              <a:xfrm>
                <a:off x="6559560" y="4449600"/>
                <a:ext cx="1055520" cy="2179800"/>
                <a:chOff x="6559560" y="4449600"/>
                <a:chExt cx="1055520" cy="2179800"/>
              </a:xfrm>
            </p:grpSpPr>
            <p:pic>
              <p:nvPicPr>
                <p:cNvPr id="108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559560" y="4449600"/>
                  <a:ext cx="1055520" cy="217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>
                  <a:off x="6582960" y="4478760"/>
                  <a:ext cx="1010880" cy="21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0" name="Rectangl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4509000"/>
                <a:ext cx="1600200" cy="158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8"/>
            <p:cNvSpPr/>
            <p:nvPr/>
          </p:nvSpPr>
          <p:spPr>
            <a:xfrm>
              <a:off x="6248520" y="4511880"/>
              <a:ext cx="16002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5.9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1752480" y="849240"/>
            <a:ext cx="1676520" cy="2274840"/>
            <a:chOff x="1752480" y="849240"/>
            <a:chExt cx="1676520" cy="2274840"/>
          </a:xfrm>
        </p:grpSpPr>
        <p:grpSp>
          <p:nvGrpSpPr>
            <p:cNvPr id="113" name="Group 5"/>
            <p:cNvGrpSpPr/>
            <p:nvPr/>
          </p:nvGrpSpPr>
          <p:grpSpPr>
            <a:xfrm>
              <a:off x="1752480" y="868320"/>
              <a:ext cx="1676520" cy="2255760"/>
              <a:chOff x="1752480" y="868320"/>
              <a:chExt cx="1676520" cy="2255760"/>
            </a:xfrm>
          </p:grpSpPr>
          <p:grpSp>
            <p:nvGrpSpPr>
              <p:cNvPr id="114" name="Rectangle 2"/>
              <p:cNvGrpSpPr/>
              <p:nvPr/>
            </p:nvGrpSpPr>
            <p:grpSpPr>
              <a:xfrm>
                <a:off x="2048760" y="868320"/>
                <a:ext cx="1160280" cy="2255760"/>
                <a:chOff x="2048760" y="868320"/>
                <a:chExt cx="1160280" cy="2255760"/>
              </a:xfrm>
            </p:grpSpPr>
            <p:pic>
              <p:nvPicPr>
                <p:cNvPr id="115" name="Rectangl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8760" y="868320"/>
                  <a:ext cx="1160280" cy="225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2073600" y="900720"/>
                  <a:ext cx="1113120" cy="21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7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2480" y="939240"/>
                <a:ext cx="1676520" cy="159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TextBox 13"/>
            <p:cNvSpPr/>
            <p:nvPr/>
          </p:nvSpPr>
          <p:spPr>
            <a:xfrm>
              <a:off x="1752480" y="849240"/>
              <a:ext cx="167652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16"/>
          <p:cNvSpPr/>
          <p:nvPr/>
        </p:nvSpPr>
        <p:spPr>
          <a:xfrm>
            <a:off x="1752480" y="4300560"/>
            <a:ext cx="1327320" cy="14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1981080" y="455292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1371600" y="3867120"/>
            <a:ext cx="2111400" cy="2305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3276720" y="4724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5486400" y="990720"/>
            <a:ext cx="2895480" cy="3124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8153280" y="2219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838080" y="3429000"/>
            <a:ext cx="3200400" cy="320040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3873600" y="47214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8"/>
          <p:cNvSpPr/>
          <p:nvPr/>
        </p:nvSpPr>
        <p:spPr>
          <a:xfrm>
            <a:off x="4724280" y="-76320"/>
            <a:ext cx="76320" cy="7010640"/>
          </a:xfrm>
          <a:prstGeom prst="line">
            <a:avLst/>
          </a:prstGeom>
          <a:ln w="130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iley Face 31"/>
          <p:cNvSpPr/>
          <p:nvPr/>
        </p:nvSpPr>
        <p:spPr>
          <a:xfrm>
            <a:off x="762120" y="3429000"/>
            <a:ext cx="3657600" cy="335268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iley Face 32"/>
          <p:cNvSpPr/>
          <p:nvPr/>
        </p:nvSpPr>
        <p:spPr>
          <a:xfrm>
            <a:off x="5181480" y="762120"/>
            <a:ext cx="3657600" cy="335268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33" descr=""/>
          <p:cNvPicPr/>
          <p:nvPr/>
        </p:nvPicPr>
        <p:blipFill>
          <a:blip r:embed="rId6"/>
          <a:stretch/>
        </p:blipFill>
        <p:spPr>
          <a:xfrm>
            <a:off x="2097000" y="-365040"/>
            <a:ext cx="641376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2395440" y="92160"/>
            <a:ext cx="62611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8"/>
          <p:cNvGrpSpPr/>
          <p:nvPr/>
        </p:nvGrpSpPr>
        <p:grpSpPr>
          <a:xfrm>
            <a:off x="380880" y="3505320"/>
            <a:ext cx="1828800" cy="2438280"/>
            <a:chOff x="380880" y="3505320"/>
            <a:chExt cx="1828800" cy="2438280"/>
          </a:xfrm>
        </p:grpSpPr>
        <p:grpSp>
          <p:nvGrpSpPr>
            <p:cNvPr id="133" name="Group 5"/>
            <p:cNvGrpSpPr/>
            <p:nvPr/>
          </p:nvGrpSpPr>
          <p:grpSpPr>
            <a:xfrm>
              <a:off x="380880" y="3505320"/>
              <a:ext cx="1828800" cy="2438280"/>
              <a:chOff x="380880" y="3505320"/>
              <a:chExt cx="1828800" cy="2438280"/>
            </a:xfrm>
          </p:grpSpPr>
          <p:grpSp>
            <p:nvGrpSpPr>
              <p:cNvPr id="134" name="Rectangle 2"/>
              <p:cNvGrpSpPr/>
              <p:nvPr/>
            </p:nvGrpSpPr>
            <p:grpSpPr>
              <a:xfrm>
                <a:off x="653040" y="3505320"/>
                <a:ext cx="1373040" cy="2438280"/>
                <a:chOff x="653040" y="3505320"/>
                <a:chExt cx="1373040" cy="2438280"/>
              </a:xfrm>
            </p:grpSpPr>
            <p:pic>
              <p:nvPicPr>
                <p:cNvPr id="135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53040" y="3505320"/>
                  <a:ext cx="1373040" cy="24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680760" y="3534840"/>
                  <a:ext cx="1320480" cy="238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7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600360"/>
                <a:ext cx="1828800" cy="160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TextBox 10"/>
            <p:cNvSpPr/>
            <p:nvPr/>
          </p:nvSpPr>
          <p:spPr>
            <a:xfrm>
              <a:off x="380880" y="3574800"/>
              <a:ext cx="18288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5.9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2146320" y="3048120"/>
            <a:ext cx="1557000" cy="2547360"/>
            <a:chOff x="2146320" y="3048120"/>
            <a:chExt cx="1557000" cy="2547360"/>
          </a:xfrm>
        </p:grpSpPr>
        <p:sp>
          <p:nvSpPr>
            <p:cNvPr id="140" name="Rectangle 15"/>
            <p:cNvSpPr/>
            <p:nvPr/>
          </p:nvSpPr>
          <p:spPr>
            <a:xfrm>
              <a:off x="2590920" y="3048120"/>
              <a:ext cx="80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alibri"/>
                </a:rPr>
                <a:t>.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2146320" y="3931920"/>
              <a:ext cx="1557000" cy="1663560"/>
              <a:chOff x="2146320" y="3931920"/>
              <a:chExt cx="1557000" cy="1663560"/>
            </a:xfrm>
          </p:grpSpPr>
          <p:sp>
            <p:nvSpPr>
              <p:cNvPr id="142" name="Rectangle 14"/>
              <p:cNvSpPr/>
              <p:nvPr/>
            </p:nvSpPr>
            <p:spPr>
              <a:xfrm>
                <a:off x="2520720" y="3931920"/>
                <a:ext cx="9198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6"/>
              <p:cNvSpPr/>
              <p:nvPr/>
            </p:nvSpPr>
            <p:spPr>
              <a:xfrm>
                <a:off x="2622600" y="403848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7"/>
              <p:cNvSpPr/>
              <p:nvPr/>
            </p:nvSpPr>
            <p:spPr>
              <a:xfrm rot="5400000">
                <a:off x="2521440" y="381708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Picture 6" descr="http://content.answers.com/main/content/wp/en/thumb/a/a3/250px-GN_Lewis_large.jpg"/>
          <p:cNvPicPr/>
          <p:nvPr/>
        </p:nvPicPr>
        <p:blipFill>
          <a:blip r:embed="rId4"/>
          <a:stretch/>
        </p:blipFill>
        <p:spPr>
          <a:xfrm>
            <a:off x="457200" y="152280"/>
            <a:ext cx="2021040" cy="204480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20" descr=""/>
          <p:cNvPicPr/>
          <p:nvPr/>
        </p:nvPicPr>
        <p:blipFill>
          <a:blip r:embed="rId5"/>
          <a:stretch/>
        </p:blipFill>
        <p:spPr>
          <a:xfrm>
            <a:off x="-96840" y="2157480"/>
            <a:ext cx="3095640" cy="519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2971800" y="12193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d Gilbert Newto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outer shell e’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3"/>
          <p:cNvGrpSpPr/>
          <p:nvPr/>
        </p:nvGrpSpPr>
        <p:grpSpPr>
          <a:xfrm>
            <a:off x="4724280" y="3505320"/>
            <a:ext cx="1828800" cy="2438280"/>
            <a:chOff x="4724280" y="3505320"/>
            <a:chExt cx="1828800" cy="2438280"/>
          </a:xfrm>
        </p:grpSpPr>
        <p:grpSp>
          <p:nvGrpSpPr>
            <p:cNvPr id="149" name="Group 5"/>
            <p:cNvGrpSpPr/>
            <p:nvPr/>
          </p:nvGrpSpPr>
          <p:grpSpPr>
            <a:xfrm>
              <a:off x="4724280" y="3505320"/>
              <a:ext cx="1828800" cy="2438280"/>
              <a:chOff x="4724280" y="3505320"/>
              <a:chExt cx="1828800" cy="2438280"/>
            </a:xfrm>
          </p:grpSpPr>
          <p:grpSp>
            <p:nvGrpSpPr>
              <p:cNvPr id="150" name="Rectangle 2"/>
              <p:cNvGrpSpPr/>
              <p:nvPr/>
            </p:nvGrpSpPr>
            <p:grpSpPr>
              <a:xfrm>
                <a:off x="4987800" y="3505320"/>
                <a:ext cx="1385640" cy="2438280"/>
                <a:chOff x="4987800" y="3505320"/>
                <a:chExt cx="1385640" cy="2438280"/>
              </a:xfrm>
            </p:grpSpPr>
            <p:pic>
              <p:nvPicPr>
                <p:cNvPr id="151" name="Rectangle 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87800" y="3505320"/>
                  <a:ext cx="1385640" cy="24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>
                  <a:off x="5018400" y="3534840"/>
                  <a:ext cx="1332360" cy="238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3" name="Rectangl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4724280" y="3600360"/>
                <a:ext cx="1828800" cy="160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TextBox 25"/>
            <p:cNvSpPr/>
            <p:nvPr/>
          </p:nvSpPr>
          <p:spPr>
            <a:xfrm>
              <a:off x="4724280" y="3581280"/>
              <a:ext cx="18288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4.00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642000" y="3230640"/>
            <a:ext cx="1557000" cy="2547360"/>
            <a:chOff x="6642000" y="3230640"/>
            <a:chExt cx="1557000" cy="2547360"/>
          </a:xfrm>
        </p:grpSpPr>
        <p:sp>
          <p:nvSpPr>
            <p:cNvPr id="156" name="Rectangle 29"/>
            <p:cNvSpPr/>
            <p:nvPr/>
          </p:nvSpPr>
          <p:spPr>
            <a:xfrm>
              <a:off x="7132320" y="3230640"/>
              <a:ext cx="80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alibri"/>
                </a:rPr>
                <a:t>.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8"/>
            <p:cNvGrpSpPr/>
            <p:nvPr/>
          </p:nvGrpSpPr>
          <p:grpSpPr>
            <a:xfrm>
              <a:off x="6642000" y="4114440"/>
              <a:ext cx="1557000" cy="1663560"/>
              <a:chOff x="6642000" y="4114440"/>
              <a:chExt cx="1557000" cy="1663560"/>
            </a:xfrm>
          </p:grpSpPr>
          <p:sp>
            <p:nvSpPr>
              <p:cNvPr id="158" name="Rectangle 31"/>
              <p:cNvSpPr/>
              <p:nvPr/>
            </p:nvSpPr>
            <p:spPr>
              <a:xfrm>
                <a:off x="7061400" y="4114440"/>
                <a:ext cx="901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000000"/>
                    </a:solidFill>
                    <a:latin typeface="Calibri"/>
                  </a:rPr>
                  <a:t>N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2"/>
              <p:cNvSpPr/>
              <p:nvPr/>
            </p:nvSpPr>
            <p:spPr>
              <a:xfrm>
                <a:off x="6979680" y="422100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3"/>
              <p:cNvSpPr/>
              <p:nvPr/>
            </p:nvSpPr>
            <p:spPr>
              <a:xfrm rot="5400000">
                <a:off x="7017120" y="4150800"/>
                <a:ext cx="806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.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Smiley Face 35"/>
          <p:cNvSpPr/>
          <p:nvPr/>
        </p:nvSpPr>
        <p:spPr>
          <a:xfrm>
            <a:off x="2209680" y="3505320"/>
            <a:ext cx="1905120" cy="251460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iley Face 36"/>
          <p:cNvSpPr/>
          <p:nvPr/>
        </p:nvSpPr>
        <p:spPr>
          <a:xfrm>
            <a:off x="6553080" y="3657600"/>
            <a:ext cx="1905120" cy="251460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2 -0.0215 0.01337 -0.02104 0.02448 -0.0326 C 0.03437 -0.04277 0.02778 -0.04092 0.03923 -0.05017 C 0.04653 -0.05618 0.05607 -0.05873 0.06389 -0.06312 C 0.07361 -0.06867 0.07864 -0.07584 0.0901 -0.07838 C 0.10434 -0.08162 0.11823 -0.08509 0.13264 -0.08717 C 0.1441 -0.08601 0.16163 -0.0867 0.17205 -0.0763 C 0.1816 -0.06659 0.18663 -0.04624 0.18993 -0.0326 C 0.19739 -0.00393 0.20538 0.0259 0.21632 0.05249 C 0.22274 0.06844 0.2309 0.08578 0.23923 0.10058 C 0.24601 0.1126 0.25417 0.12301 0.26042 0.13549 C 0.27083 0.15584 0.28368 0.17896 0.29809 0.19445 C 0.30382 0.20046 0.31059 0.20393 0.31632 0.20971 C 0.34323 0.23653 0.36371 0.24925 0.3967 0.25549 C 0.41962 0.25457 0.44253 0.25595 0.46545 0.25341 C 0.47014 0.25295 0.47396 0.24832 0.47864 0.24671 C 0.48871 0.24301 0.49913 0.24254 0.50972 0.24 C 0.51667 0.23653 0.52257 0.23168 0.52934 0.22728 C 0.54618 0.20462 0.53715 0.22775 0.54097 0.17017 C 0.54305 0.13665 0.55052 0.10358 0.55399 0.07006 C 0.55347 0.04902 0.55347 0.02775 0.55243 0.00671 C 0.55087 -0.02474 0.52621 -0.04347 0.51146 -0.06312 C 0.51007 -0.06497 0.50955 -0.06798 0.50816 -0.06983 C 0.50625 -0.07237 0.50347 -0.07376 0.50156 -0.0763 C 0.49583 -0.08393 0.49045 -0.0941 0.48333 -0.10035 C 0.48107 -0.10243 0.47795 -0.10289 0.47535 -0.10474 C 0.47187 -0.10728 0.46545 -0.11353 0.46545 -0.11353 C 0.46892 -0.12994 0.47309 -0.1452 0.47691 -0.16162 C 0.47031 -0.17341 0.46302 -0.18913 0.45573 -0.20069 C 0.44774 -0.21318 0.43785 -0.22405 0.42934 -0.23561 C 0.41927 -0.24902 0.40955 -0.26335 0.39826 -0.27491 C 0.38732 -0.28624 0.37413 -0.28902 0.36215 -0.29688 C 0.33107 -0.31746 0.35816 -0.30428 0.33576 -0.31422 C 0.32621 -0.32301 0.31423 -0.32509 0.30295 -0.3274 C 0.26753 -0.32555 0.26805 -0.32786 0.24583 -0.32092 C 0.23976 -0.31468 0.23542 -0.30959 0.2309 -0.30127 C 0.23107 -0.29642 0.2309 -0.26381 0.2342 -0.25087 C 0.23923 -0.23168 0.24809 -0.20485 0.25573 -0.18775 C 0.25989 -0.17827 0.26198 -0.16994 0.26857 -0.16393 C 0.28142 -0.13757 0.29635 -0.11376 0.31302 -0.09156 C 0.32917 -0.07006 0.32118 -0.08555 0.3342 -0.07191 C 0.34201 -0.06405 0.33871 -0.06243 0.34722 -0.05873 C 0.35156 -0.05688 0.35625 -0.05642 0.36059 -0.05457 C 0.37569 -0.04092 0.39583 -0.05064 0.41302 -0.05457 C 0.42048 -0.0585 0.42673 -0.06428 0.43437 -0.06751 C 0.4401 -0.07514 0.44566 -0.08116 0.45243 -0.08717 C 0.45989 -0.10289 0.45607 -0.09665 0.46389 -0.10682 C 0.47309 -0.1311 0.46094 -0.10127 0.47205 -0.12208 C 0.48212 -0.14104 0.48732 -0.16254 0.5 -0.17896 C 0.50364 -0.18867 0.50798 -0.20416 0.51302 -0.21387 C 0.51719 -0.23029 0.52292 -0.24509 0.52621 -0.26196 C 0.52517 -0.28809 0.52708 -0.31861 0.51458 -0.34058 C 0.51128 -0.35861 0.50069 -0.3667 0.4901 -0.37757 C 0.48333 -0.38451 0.47673 -0.39121 0.46875 -0.39514 C 0.44548 -0.42613 0.41042 -0.45919 0.37691 -0.46497 C 0.34844 -0.46358 0.32257 -0.46266 0.29496 -0.45827 C 0.29271 -0.45757 0.29045 -0.45665 0.28837 -0.45618 C 0.28246 -0.45526 0.27621 -0.45572 0.27031 -0.4541 C 0.2684 -0.45364 0.26701 -0.45087 0.26528 -0.44971 C 0.25903 -0.44532 0.25191 -0.4437 0.24583 -0.43861 C 0.23472 -0.42959 0.22482 -0.41688 0.21302 -0.4104 C 0.20521 -0.39977 0.19479 -0.39607 0.18663 -0.38636 C 0.17743 -0.37549 0.17691 -0.3704 0.16545 -0.3667 C 0.14271 -0.35168 0.17639 -0.37295 0.15052 -0.36023 C 0.14878 -0.35931 0.14739 -0.35699 0.14583 -0.35584 C 0.14045 -0.3526 0.12934 -0.34705 0.12934 -0.34705 C 0.11597 -0.32925 0.09896 -0.31584 0.08351 -0.30127 C 0.08107 -0.29919 0.07882 -0.29734 0.07691 -0.29457 C 0.07274 -0.28832 0.06545 -0.27491 0.06545 -0.27491 C 0.06215 -0.2615 0.03785 -0.2148 0.02934 -0.2074 C 0.025 -0.2037 0.02066 -0.20023 0.01632 -0.19653 C 0.0059 -0.18728 -0.00556 -0.17341 -0.01806 -0.16832 C -0.03299 -0.24162 0.02587 -0.31607 0.06059 -0.36231 C 0.06111 -0.36439 0.06371 -0.36786 0.06215 -0.36879 C 0.05972 -0.3704 0.0566 -0.36763 0.05399 -0.3667 C 0.04739 -0.36416 0.04028 -0.36254 0.03437 -0.35792 C 0.0316 -0.35584 0.02917 -0.35283 0.02621 -0.35144 C 0.02101 -0.3489 0.0151 -0.34867 0.00972 -0.34705 C -0.00816 -0.35168 0.01042 -0.34358 -0.00191 -0.36439 C -0.00365 -0.3674 -0.00712 -0.3674 -0.0099 -0.36879 C -0.01771 -0.36809 -0.02552 -0.36925 -0.03281 -0.3667 C -0.03993 -0.36416 -0.05261 -0.35353 -0.05261 -0.35353 C -0.06788 -0.33341 -0.08611 -0.31584 -0.09375 -0.28809 C -0.09479 -0.25618 -0.09149 -0.24647 -0.1033 -0.22474 C -0.11042 -0.19722 -0.10261 -0.22497 -0.11181 -0.20069 C -0.11511 -0.19144 -0.11077 -0.19561 -0.11667 -0.18543 C -0.12136 -0.17711 -0.12691 -0.1704 -0.13125 -0.16162 C -0.13229 -0.14012 -0.13333 -0.11445 -0.14271 -0.09595 C -0.14636 -0.08069 -0.14115 -0.09919 -0.14931 -0.08277 C -0.15018 -0.08092 -0.15 -0.07815 -0.15087 -0.0763 C -0.15556 -0.06566 -0.16337 -0.0578 -0.16893 -0.04786 C -0.17292 -0.03306 -0.16736 -0.04948 -0.1757 -0.03699 C -0.18195 -0.02728 -0.18629 -0.01457 -0.19184 -0.00416 C -0.19236 -0.00208 -0.19497 0.00671 -0.19531 0.00879 C -0.19653 0.01665 -0.19844 0.03283 -0.19844 0.03283 C -0.19688 0.04601 -0.19618 0.05919 -0.19375 0.07191 C -0.19028 0.09041 -0.17691 0.10335 -0.16893 0.11792 C -0.14688 0.15792 -0.18594 0.09434 -0.1559 0.14173 C -0.14948 0.16324 -0.15677 0.14312 -0.14601 0.16162 C -0.13611 0.1785 -0.12882 0.20093 -0.11476 0.21179 C -0.09948 0.23584 -0.08299 0.25364 -0.0625 0.26844 C -0.05886 0.27121 -0.05625 0.27538 -0.05261 0.27746 C -0.04636 0.28116 -0.03958 0.28139 -0.03281 0.28393 C -0.00122 0.28116 0.02778 0.27515 0.05885 0.27075 C 0.09514 0.25873 0.13507 0.25642 0.17205 0.25341 C 0.21111 0.23838 0.17413 0.2511 0.26701 0.24671 C 0.28385 0.24601 0.30121 0.23584 0.31788 0.23376 C 0.32951 0.22821 0.33993 0.22659 0.35243 0.22497 C 0.37812 0.21665 0.34062 0.22821 0.41302 0.22058 C 0.42413 0.21942 0.43194 0.20647 0.44253 0.20301 C 0.44774 0.19838 0.45382 0.19699 0.45885 0.19214 C 0.4691 0.18243 0.45868 0.18798 0.46875 0.18358 C 0.47396 0.17642 0.47812 0.17133 0.48524 0.16832 C 0.48628 0.16601 0.48698 0.16347 0.48837 0.16162 C 0.49028 0.15908 0.4934 0.15815 0.49496 0.15515 C 0.49635 0.1526 0.49548 0.1489 0.4967 0.14636 C 0.49792 0.14382 0.5 0.14173 0.50156 0.13988 C 0.50677 0.12347 0.51215 0.10844 0.51632 0.09179 C 0.5158 0.07422 0.51614 0.05665 0.51458 0.03908 C 0.51371 0.03075 0.50573 0.01179 0.50312 0.00439 C 0.49357 -0.02312 0.48125 -0.04578 0.46719 -0.06983 C 0.4559 -0.08925 0.43455 -0.0985 0.41962 -0.11121 C 0.40746 -0.12162 0.39479 -0.13156 0.38021 -0.13526 C 0.36753 -0.1452 0.35469 -0.15699 0.3408 -0.16393 C 0.3316 -0.16832 0.32934 -0.16694 0.32118 -0.17225 C 0.30052 -0.1859 0.31892 -0.17734 0.29809 -0.18543 C 0.27726 -0.20532 0.29687 -0.18867 0.27344 -0.20301 C 0.26632 -0.2074 0.25972 -0.21364 0.25243 -0.21827 C 0.22778 -0.23353 0.2 -0.24763 0.17864 -0.27052 C 0.16476 -0.28532 0.15017 -0.2978 0.13594 -0.31214 C 0.12552 -0.32254 0.11753 -0.33503 0.10642 -0.34474 C 0.09687 -0.35306 0.08854 -0.35907 0.08021 -0.36879 C 0.06302 -0.3889 0.0434 -0.4067 0.02448 -0.42335 C 0.01701 -0.42983 0.01285 -0.43769 0.00486 -0.44301 C -0.00035 -0.44994 -0.00972 -0.46289 -0.01649 -0.46497 C -0.02518 -0.46775 -0.03438 -0.46983 -0.04288 -0.47376 C -0.05799 -0.47306 -0.07344 -0.47399 -0.08854 -0.47144 C -0.0908 -0.47098 -0.09149 -0.46636 -0.09375 -0.46497 C -0.09774 -0.4622 -0.10261 -0.46312 -0.1066 -0.46058 C -0.11979 -0.45202 -0.11042 -0.45757 -0.11979 -0.4474 C -0.12518 -0.44185 -0.14219 -0.4289 -0.14601 -0.42127 C -0.16077 -0.39214 -0.17622 -0.36139 -0.19531 -0.33618 C -0.19931 -0.32208 -0.20799 -0.30913 -0.21493 -0.29688 C -0.22014 -0.28763 -0.22761 -0.28231 -0.23281 -0.27283 C -0.23351 -0.27075 -0.23316 -0.26775 -0.23455 -0.26636 C -0.24028 -0.26035 -0.24653 -0.25595 -0.25261 -0.25087 C -0.25538 -0.24879 -0.2566 -0.24462 -0.25903 -0.24231 C -0.26042 -0.24092 -0.26233 -0.24069 -0.26406 -0.24 C -0.2691 -0.23029 -0.27101 -0.23399 -0.27708 -0.22705 C -0.28768 -0.21526 -0.27882 -0.21988 -0.29184 -0.21595 C -0.30417 -0.20786 -0.31597 -0.19954 -0.32952 -0.19653 C -0.33889 -0.18821 -0.33247 -0.19191 -0.34931 -0.19191 E">
                                      <p:cBhvr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4.04624E-007 C 0.00105 0.01202 0.00209 0.0215 0.00487 0.0326 C 0.00626 0.04902 0.00938 0.06312 0.01303 0.07861 C 0.01251 0.08439 0.01285 0.0904 0.01146 0.09595 C 0.00834 0.10821 -0.00277 0.11815 -0.01145 0.12231 C -0.01215 0.12208 -0.02708 0.12115 -0.03124 0.11792 C -0.04236 0.10959 -0.05156 0.09665 -0.06232 0.0874 C -0.06579 0.08023 -0.07013 0.07468 -0.07378 0.06774 C -0.07673 0.04139 -0.07291 0.01318 -0.06406 -0.01087 C -0.06267 -0.02659 -0.06041 -0.04093 -0.06406 -0.05688 C -0.0651 -0.06127 -0.07048 -0.05965 -0.07378 -0.06127 C -0.08038 -0.06012 -0.08888 -0.06312 -0.09357 -0.05688 C -0.09722 -0.05202 -0.10173 -0.02451 -0.1052 -0.01526 C -0.10937 0.02035 -0.09635 0.06243 -0.12135 0.08509 C -0.14097 0.08254 -0.14166 0.08231 -0.15746 0.07191 C -0.15989 0.06728 -0.16371 0.06404 -0.16562 0.05896 C -0.16683 0.05572 -0.16666 0.05179 -0.16736 0.04809 C -0.16909 0.0363 -0.17135 0.02428 -0.17378 0.01295 C -0.17291 -0.01017 -0.1677 -0.04809 -0.17222 -0.07214 C -0.17274 -0.07515 -0.17569 -0.0763 -0.17708 -0.07861 C -0.17829 -0.0807 -0.17881 -0.08347 -0.18038 -0.08509 C -0.1835 -0.08856 -0.19027 -0.09387 -0.19027 -0.09387 C -0.20017 -0.09226 -0.20676 -0.09226 -0.21475 -0.08509 C -0.21736 -0.07214 -0.21944 -0.05896 -0.22135 -0.04578 C -0.22187 -0.02844 -0.22222 -0.01087 -0.22308 0.00647 C -0.22326 0.00948 -0.22343 0.01272 -0.22465 0.01526 C -0.22708 0.02035 -0.23732 0.02358 -0.24097 0.02613 C -0.28593 0.02358 -0.26631 0.02659 -0.29999 0.01965 C -0.31267 0.01711 -0.32361 0.00855 -0.33611 0.00439 C -0.34305 -0.00023 -0.35051 -0.0037 -0.35746 -0.00879 C -0.37239 -0.01942 -0.38194 -0.03515 -0.39357 -0.05017 C -0.39704 -0.05965 -0.40242 -0.06659 -0.40503 -0.07653 C -0.40989 -0.11792 -0.41076 -0.1748 -0.37222 -0.18567 C -0.36926 -0.18543 -0.34895 -0.1852 -0.34097 -0.18127 C -0.33298 -0.17734 -0.32673 -0.17272 -0.31805 -0.17041 C -0.30694 -0.16023 -0.29357 -0.15214 -0.28038 -0.14844 C -0.27031 -0.14174 -0.26319 -0.13619 -0.2526 -0.13318 C -0.24461 -0.12624 -0.23489 -0.1237 -0.22621 -0.11792 C -0.19617 -0.11931 -0.18697 -0.11861 -0.16406 -0.12439 C -0.15468 -0.13087 -0.14201 -0.13665 -0.13281 -0.14405 C -0.10642 -0.16532 -0.08489 -0.19584 -0.07708 -0.23584 C -0.07899 -0.25942 -0.0835 -0.28231 -0.09843 -0.29688 C -0.1052 -0.31052 -0.09722 -0.29711 -0.10989 -0.30798 C -0.11527 -0.31237 -0.11874 -0.3207 -0.12482 -0.32324 C -0.12812 -0.32463 -0.13142 -0.32578 -0.13454 -0.32763 C -0.14305 -0.33272 -0.16128 -0.34752 -0.16892 -0.34937 C -0.19183 -0.35491 -0.1809 -0.35283 -0.20173 -0.35584 C -0.22829 -0.3533 -0.24288 -0.34543 -0.26718 -0.33619 C -0.2769 -0.32856 -0.28576 -0.32231 -0.2967 -0.31885 C -0.3092 -0.30867 -0.31944 -0.30035 -0.33124 -0.28833 C -0.33628 -0.28324 -0.34183 -0.27885 -0.34756 -0.27515 C -0.34982 -0.27376 -0.35208 -0.2726 -0.35416 -0.27075 C -0.3651 -0.26035 -0.35312 -0.26705 -0.36406 -0.26197 C -0.36926 -0.25503 -0.37413 -0.25133 -0.38038 -0.24671 C -0.38854 -0.2407 -0.39496 -0.2326 -0.40329 -0.22705 C -0.40711 -0.21318 -0.41527 -0.20208 -0.42135 -0.19006 C -0.43593 -0.16116 -0.4092 -0.20671 -0.43124 -0.17041 C -0.43524 -0.1533 -0.4401 -0.13711 -0.44426 -0.12023 C -0.44704 -0.08416 -0.45538 -0.04 -0.4394 -0.00879 C -0.43454 0.0104 -0.43385 0.00324 -0.42621 0.01965 C -0.4177 0.03815 -0.4085 0.05665 -0.3967 0.07191 C -0.39565 0.07653 -0.39201 0.08023 -0.39183 0.08509 C -0.39114 0.09919 -0.39183 0.11306 -0.39999 0.12231 C -0.40416 0.12693 -0.41492 0.13318 -0.41805 0.13526 C -0.42117 0.13734 -0.42795 0.13965 -0.42795 0.13965 C -0.43558 0.13896 -0.4434 0.14011 -0.45086 0.13757 C -0.4592 0.1348 -0.46579 0.12231 -0.47222 0.11561 C -0.47517 0.11237 -0.47899 0.11052 -0.48194 0.10705 C -0.48836 0.09942 -0.49288 0.09017 -0.49999 0.083 C -0.50104 0.0793 -0.50156 0.07514 -0.50329 0.07191 C -0.50659 0.06613 -0.51475 0.05665 -0.51475 0.05665 C -0.51874 0.0437 -0.52274 0.04185 -0.52795 0.03052 C -0.53194 0.02196 -0.53506 0.01272 -0.5394 0.00439 C -0.54149 -0.00763 -0.54739 -0.01457 -0.55086 -0.02613 C -0.55277 -0.0326 -0.55416 -0.03931 -0.55572 -0.04578 C -0.55624 -0.04809 -0.55746 -0.05249 -0.55746 -0.05249 C -0.56128 -0.12278 -0.56909 -0.19746 -0.54426 -0.26197 C -0.54079 -0.28162 -0.54548 -0.25873 -0.53784 -0.28162 C -0.53697 -0.28439 -0.53749 -0.28809 -0.53611 -0.29041 C -0.53506 -0.29226 -0.53281 -0.29179 -0.53124 -0.29249 C -0.52708 -0.30867 -0.51128 -0.32833 -0.50329 -0.34289 C -0.5019 -0.34543 -0.50156 -0.3489 -0.49999 -0.35145 C -0.49149 -0.36601 -0.47968 -0.37734 -0.46718 -0.38428 C -0.46319 -0.38659 -0.45989 -0.39122 -0.45572 -0.39307 C -0.43333 -0.40301 -0.44861 -0.39214 -0.43124 -0.40185 C -0.40694 -0.41526 -0.38385 -0.42127 -0.35746 -0.42359 C -0.33611 -0.42266 -0.31423 -0.42613 -0.29357 -0.41919 C -0.28628 -0.41688 -0.28124 -0.40856 -0.27378 -0.40601 C -0.26614 -0.39838 -0.26649 -0.39399 -0.25746 -0.39075 C -0.24479 -0.37387 -0.23229 -0.35769 -0.21979 -0.34058 C -0.21579 -0.32023 -0.2217 -0.34312 -0.21145 -0.32532 C -0.18645 -0.28231 -0.21145 -0.31653 -0.1967 -0.29688 C -0.18923 -0.2763 -0.1809 -0.25642 -0.17378 -0.23584 C -0.16874 -0.22104 -0.16666 -0.2074 -0.1592 -0.19445 C -0.1552 -0.17619 -0.15121 -0.15815 -0.14774 -0.13965 C -0.14947 -0.1015 -0.14635 -0.06567 -0.16406 -0.03491 C -0.16736 -0.0222 -0.17204 -0.01017 -0.17881 -4.04624E-007 C -0.18055 0.00277 -0.1835 0.00393 -0.18524 0.00647 C -0.18836 0.0111 -0.19027 0.01734 -0.19357 0.02173 C -0.19583 0.02474 -0.1993 0.02566 -0.20173 0.02844 C -0.2052 0.03237 -0.20781 0.03769 -0.21145 0.04139 C -0.22812 0.05826 -0.25121 0.06543 -0.27048 0.0763 C -0.27048 0.0763 -0.30242 0.08208 -0.30833 0.083 C -0.31267 0.0837 -0.32135 0.08509 -0.32135 0.08509 C -0.36736 0.0837 -0.40954 0.08532 -0.4526 0.06543 C -0.4592 0.05665 -0.46788 0.05156 -0.47378 0.04139 C -0.49027 0.01295 -0.49999 -0.02012 -0.51145 -0.05249 C -0.51718 -0.0689 -0.52395 -0.08254 -0.52795 -0.10058 C -0.53159 -0.11723 -0.53541 -0.13295 -0.54097 -0.14844 C -0.54583 -0.21665 -0.54722 -0.2837 -0.52135 -0.34289 C -0.51909 -0.35538 -0.51406 -0.36763 -0.50833 -0.3778 C -0.50277 -0.39861 -0.49027 -0.41179 -0.47708 -0.42359 C -0.46926 -0.43052 -0.46388 -0.44116 -0.45572 -0.44763 C -0.4427 -0.4578 -0.43246 -0.46382 -0.41805 -0.46728 C -0.39479 -0.48509 -0.36753 -0.49526 -0.34097 -0.4978 C -0.31492 -0.50405 -0.28958 -0.49734 -0.26406 -0.49341 C -0.25972 -0.49156 -0.25503 -0.4911 -0.25086 -0.48902 C -0.24895 -0.48809 -0.24774 -0.48578 -0.246 -0.48463 C -0.24288 -0.48278 -0.23611 -0.48046 -0.23611 -0.48046 C -0.23281 -0.47746 -0.22951 -0.47468 -0.22621 -0.47168 C -0.22465 -0.47029 -0.22135 -0.46728 -0.22135 -0.46728 C -0.22031 -0.4652 -0.21926 -0.46289 -0.21805 -0.46081 C -0.21597 -0.45757 -0.21336 -0.45526 -0.21145 -0.45202 C -0.20833 -0.44648 -0.20555 -0.4407 -0.20329 -0.43445 C -0.20225 -0.43145 -0.20138 -0.42844 -0.19999 -0.42567 C -0.19409 -0.41457 -0.19617 -0.42405 -0.19183 -0.41272 C -0.18854 -0.40416 -0.18767 -0.39653 -0.18367 -0.38867 C -0.17986 -0.37295 -0.17482 -0.36023 -0.17048 -0.34497 C -0.16197 -0.31283 -0.15242 -0.28254 -0.13958 -0.25341 C -0.13558 -0.23075 -0.12204 -0.21942 -0.11319 -0.20093 C -0.11197 -0.19815 -0.11145 -0.19468 -0.10989 -0.19214 C -0.10642 -0.18659 -0.10104 -0.18335 -0.09843 -0.17688 C -0.08923 -0.15237 -0.07604 -0.13919 -0.05902 -0.12439 C -0.05347 -0.11954 -0.04617 -0.11122 -0.0394 -0.10913 C -0.03454 -0.10775 -0.02951 -0.10775 -0.02465 -0.10705 C -0.00833 -0.11052 -0.01111 -0.11515 0.00157 -0.12671 C 0.00261 -0.12879 0.004 -0.13087 0.00487 -0.13318 C 0.00626 -0.13665 0.0066 -0.14081 0.00817 -0.14405 C 0.02084 -0.17202 0.00869 -0.13989 0.02119 -0.1637 C 0.02553 -0.17202 0.029 -0.18127 0.03282 -0.19006 C 0.03942 -0.20532 0.04358 -0.22104 0.0507 -0.23584 C 0.05504 -0.25596 0.06251 -0.27214 0.07205 -0.28833 C 0.07483 -0.29896 0.0816 -0.30775 0.08681 -0.31653 C 0.09376 -0.32833 0.09758 -0.33804 0.10643 -0.34728 C 0.1099 -0.36 0.11685 -0.36601 0.12622 -0.36902 C 0.14254 -0.34728 0.14567 -0.31885 0.15574 -0.29249 C 0.15764 -0.27006 0.15955 -0.24717 0.16216 -0.22497 C 0.16303 -0.21688 0.16546 -0.20093 0.16546 -0.20093 C 0.16598 -0.18428 0.1658 -0.1674 0.16719 -0.15075 C 0.16754 -0.14705 0.16876 -0.15792 0.16876 -0.16162 C 0.1658 -0.28786 0.17258 -0.25179 0.1606 -0.30798 C 0.16025 -0.31168 0.15817 -0.33596 0.1573 -0.34058 C 0.15313 -0.36116 0.1474 -0.3785 0.14098 -0.39746 C 0.13334 -0.41965 0.12587 -0.44509 0.10643 -0.45202 C 0.08959 -0.44994 0.07709 -0.44671 0.06216 -0.43676 C 0.05348 -0.43098 0.03924 -0.41272 0.03924 -0.41272 C 0.03282 -0.39515 0.0224 -0.38428 0.01476 -0.36694 C -0.00364 -0.32509 -0.02361 -0.2837 -0.03611 -0.23792 C -0.03992 -0.1859 -0.04531 -0.1452 -0.00659 -0.11353 C 0.00035 -0.10775 0.03126 -0.08902 0.03768 -0.0874 C 0.05157 -0.0837 0.08021 -0.08301 0.08021 -0.08301 C 0.08455 -0.0837 0.08976 -0.08185 0.09341 -0.08509 C 0.09584 -0.08717 0.09393 -0.09272 0.09497 -0.09619 C 0.09549 -0.09827 0.10313 -0.11122 0.1033 -0.11145 C 0.10747 -0.12856 0.10122 -0.1059 0.10973 -0.12439 C 0.11337 -0.13226 0.11702 -0.14405 0.11962 -0.15283 C 0.1257 -0.12439 0.13473 -0.09734 0.14254 -0.06983 C 0.14931 -0.04648 0.14219 -0.06174 0.14914 -0.04809 C 0.15556 -0.02174 0.15296 -0.08648 0.154 -0.09387 C 0.15764 -0.12208 0.16094 -0.15052 0.16389 -0.17896 C 0.16459 -0.18543 0.16337 -0.1926 0.16546 -0.19861 C 0.16858 -0.2074 0.18004 -0.21734 0.18681 -0.22058 C 0.19428 -0.23052 0.19237 -0.23145 0.18681 -0.24231 C 0.18421 -0.25642 0.18004 -0.25989 0.17049 -0.26636 C 0.16667 -0.28046 0.17067 -0.29249 0.17692 -0.30359 C 0.18021 -0.31977 0.17657 -0.30474 0.18351 -0.32324 C 0.18421 -0.32532 0.18525 -0.32971 0.18525 -0.32971 E">
                                      <p:cBhvr>
                                        <p:cTn id="23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mrbuckeye.com/images/dot_diagrams.gif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7.gif"/>
          <p:cNvPicPr/>
          <p:nvPr/>
        </p:nvPicPr>
        <p:blipFill>
          <a:blip r:embed="rId1"/>
          <a:stretch/>
        </p:blipFill>
        <p:spPr>
          <a:xfrm>
            <a:off x="0" y="1190520"/>
            <a:ext cx="1981080" cy="14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17.gif"/>
          <p:cNvPicPr/>
          <p:nvPr/>
        </p:nvPicPr>
        <p:blipFill>
          <a:blip r:embed="rId2"/>
          <a:stretch/>
        </p:blipFill>
        <p:spPr>
          <a:xfrm>
            <a:off x="7162920" y="1143000"/>
            <a:ext cx="1981080" cy="1476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-76320" y="49528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Covalent bond-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forms when atoms </a:t>
            </a:r>
            <a:r>
              <a:rPr b="0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share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 1 or more 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0" y="5562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Ionic bond-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forms by an attraction of oppositely charged ions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                      where electrons are “donated” from one atom to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                     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0" y="533520"/>
            <a:ext cx="99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0253f"/>
                </a:solidFill>
                <a:uFillTx/>
                <a:latin typeface="Calibri"/>
              </a:rPr>
              <a:t>Ions-</a:t>
            </a: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any element that gains or loses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838080" y="128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cation-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 positive charged ion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ses an electr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838080" y="3733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fix  “bi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means two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EX: biweekly You get paid bi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838080" y="20368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253f"/>
                </a:solidFill>
                <a:uFillTx/>
                <a:latin typeface="Calibri"/>
              </a:rPr>
              <a:t>anion-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 negative charged ion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ains an electr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tangle 9" descr=""/>
          <p:cNvPicPr/>
          <p:nvPr/>
        </p:nvPicPr>
        <p:blipFill>
          <a:blip r:embed="rId3"/>
          <a:stretch/>
        </p:blipFill>
        <p:spPr>
          <a:xfrm>
            <a:off x="225360" y="-324000"/>
            <a:ext cx="7785000" cy="1006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0" y="312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inary compound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 is composed of two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1"/>
          <p:cNvSpPr/>
          <p:nvPr/>
        </p:nvSpPr>
        <p:spPr>
          <a:xfrm>
            <a:off x="-76320" y="2743200"/>
            <a:ext cx="9220320" cy="1440"/>
          </a:xfrm>
          <a:prstGeom prst="line">
            <a:avLst/>
          </a:prstGeom>
          <a:ln cap="rnd" w="174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2"/>
          <p:cNvSpPr/>
          <p:nvPr/>
        </p:nvSpPr>
        <p:spPr>
          <a:xfrm>
            <a:off x="76320" y="4875120"/>
            <a:ext cx="9219960" cy="1800"/>
          </a:xfrm>
          <a:prstGeom prst="line">
            <a:avLst/>
          </a:prstGeom>
          <a:ln cap="rnd" w="174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2:53:27Z</dcterms:created>
  <dc:creator>Laurie</dc:creator>
  <dc:description/>
  <dc:language>en-US</dc:language>
  <cp:lastModifiedBy>user</cp:lastModifiedBy>
  <dcterms:modified xsi:type="dcterms:W3CDTF">2009-06-25T15:42:45Z</dcterms:modified>
  <cp:revision>5</cp:revision>
  <dc:subject/>
  <dc:title>Slide 1</dc:title>
</cp:coreProperties>
</file>